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3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B805-806F-4320-BF17-541117CDF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BB7B-2CB3-47ED-81C0-980C744C2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C83D-119B-4FF4-BAD3-E253E3714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296-524E-422C-AB94-A225C408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39F-F6C7-4A0A-A102-15160792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9E9-1053-4C4C-B2CC-D6CFBB43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638-AB57-418F-A789-DDBAE7C6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E5F-7F30-4310-B2E6-89B71F76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BB5-DC64-40F9-BE4D-08317EE3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61C-A1E8-495E-B63F-55110C95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49C-3F83-47D3-B3C9-18DF42F0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147-09C3-4F4F-A7BD-30E0D169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E45-C4AA-4878-B0F8-2E8DC815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F14-D34F-48FE-A7F3-99BF591B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186-62C0-4663-BB01-5D8D10BE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7F0F-DA65-4287-BB5D-07CD8369BD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Тања</a:t>
            </a: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Зечевић</a:t>
            </a: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Лук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02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alibri"/>
              </a:rPr>
              <a:t>Циљев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3840" y="928800"/>
            <a:ext cx="8582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тклањ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бол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локалн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циркулациј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локалног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пштег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едем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еластичности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авлађив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нтрактур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артроген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иоген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езмогене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пречав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тварањ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грубих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жиљак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тимулис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зарастањ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стију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онус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импатикус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оторн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реедукациј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дузетости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нактивитет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вентилаторн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ардиолошк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дела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врсти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активне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762120" y="1841400"/>
          <a:ext cx="7823160" cy="40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41400"/>
                    <a:ext cx="7823160" cy="4025880"/>
                  </a:xfrm>
                  <a:prstGeom prst="rect">
                    <a:avLst/>
                  </a:prstGeom>
                  <a:ln w="9360">
                    <a:solidFill>
                      <a:srgbClr val="1f497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окал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окал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пшт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зодилат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28680" y="1981080"/>
            <a:ext cx="452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азомоторн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акциј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тр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екстрацелуларн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мен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,,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ћелијску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умпу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"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змен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иоелектричних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тенцијал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ормирањ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кционог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тенцијал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рав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ишиц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цес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иосинт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Медицинск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рехабилитациј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36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ehabilitati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раћ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јаш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а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пособљавањ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валид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и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ж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ис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ч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вијање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ксиму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остал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стављ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уп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хабилит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е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хабилит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дицинс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хабили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оцијал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хабили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фесионал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хабили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нцип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дицинс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хабилитациј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00" y="1980720"/>
            <a:ext cx="82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лаговреме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хабилит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обухват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имс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вољ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уг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црп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хабилитацио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гућно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инуи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цијен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бјека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јека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хабилит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етод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едицинск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ехабилитациј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85840" y="1268280"/>
            <a:ext cx="9072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г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зикал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д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ме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тетски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тотски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едст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вор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апи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спитањ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разовањ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ц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метен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ој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моћ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авањ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ијатриски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моћ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авањ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цијални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лем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цијал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хабилитациј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есионалн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меравањ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есионал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хабилитациј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зроц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неспособље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нич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е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генита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ома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храњ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ијатриј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ркоман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лкохолиза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ласичн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одел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тиолошк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то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толош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мен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инич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нифестациј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6"/>
          <p:cNvSpPr/>
          <p:nvPr/>
        </p:nvSpPr>
        <p:spPr>
          <a:xfrm>
            <a:off x="2209680" y="2819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>
            <a:off x="22096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времен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цеп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валидност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штеће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валид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ендике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4"/>
          <p:cNvSpPr/>
          <p:nvPr/>
        </p:nvSpPr>
        <p:spPr>
          <a:xfrm>
            <a:off x="1828800" y="2514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1"/>
          <p:cNvPicPr/>
          <p:nvPr/>
        </p:nvPicPr>
        <p:blipFill>
          <a:blip r:embed="rId1"/>
          <a:stretch/>
        </p:blipFill>
        <p:spPr>
          <a:xfrm>
            <a:off x="1542960" y="2943360"/>
            <a:ext cx="2095560" cy="219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hristopher-reeve_1005865c"/>
          <p:cNvPicPr/>
          <p:nvPr/>
        </p:nvPicPr>
        <p:blipFill>
          <a:blip r:embed="rId2"/>
          <a:stretch/>
        </p:blipFill>
        <p:spPr>
          <a:xfrm>
            <a:off x="4572000" y="476280"/>
            <a:ext cx="3384720" cy="2840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images"/>
          <p:cNvPicPr/>
          <p:nvPr/>
        </p:nvPicPr>
        <p:blipFill>
          <a:blip r:embed="rId3"/>
          <a:stretch/>
        </p:blipFill>
        <p:spPr>
          <a:xfrm>
            <a:off x="250920" y="476280"/>
            <a:ext cx="41828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дм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ПШТА ФИЗИКАЛ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дмет се вреднује са 6 ЕСПБ. Недељно има 4 часова активне наставе (3 часа предавања и 1 час вежб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ntent Placeholder 5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252600" cy="316872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6" descr=""/>
          <p:cNvPicPr/>
          <p:nvPr/>
        </p:nvPicPr>
        <p:blipFill>
          <a:blip r:embed="rId2"/>
          <a:stretch/>
        </p:blipFill>
        <p:spPr>
          <a:xfrm>
            <a:off x="5194440" y="1600200"/>
            <a:ext cx="294624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7" descr=""/>
          <p:cNvPicPr/>
          <p:nvPr/>
        </p:nvPicPr>
        <p:blipFill>
          <a:blip r:embed="rId3"/>
          <a:stretch/>
        </p:blipFill>
        <p:spPr>
          <a:xfrm>
            <a:off x="7128000" y="260280"/>
            <a:ext cx="2016000" cy="28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USER\Desktop\NIck Vujicic\Novak+Djokovic+Nick+Vujicic+Novak+Djokovic+1Rxo5kTl_U0l.jpg"/>
          <p:cNvPicPr/>
          <p:nvPr/>
        </p:nvPicPr>
        <p:blipFill>
          <a:blip r:embed="rId4"/>
          <a:stretch/>
        </p:blipFill>
        <p:spPr>
          <a:xfrm>
            <a:off x="2340000" y="2924280"/>
            <a:ext cx="25923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:\предавања за ОФТ\01. прва недеља\Natasa\nata.jpg"/>
          <p:cNvPicPr/>
          <p:nvPr/>
        </p:nvPicPr>
        <p:blipFill>
          <a:blip r:embed="rId1"/>
          <a:stretch/>
        </p:blipFill>
        <p:spPr>
          <a:xfrm>
            <a:off x="0" y="0"/>
            <a:ext cx="347652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H:\предавања за ОФТ\01. прва недеља\Natasa\nata 2.jpg"/>
          <p:cNvPicPr/>
          <p:nvPr/>
        </p:nvPicPr>
        <p:blipFill>
          <a:blip r:embed="rId2"/>
          <a:stretch/>
        </p:blipFill>
        <p:spPr>
          <a:xfrm>
            <a:off x="6119640" y="0"/>
            <a:ext cx="16704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:\предавања за ОФТ\01. прва недеља\Natasa\natasa foto Marko Metlas (2)_1000x0.jpg"/>
          <p:cNvPicPr/>
          <p:nvPr/>
        </p:nvPicPr>
        <p:blipFill>
          <a:blip r:embed="rId3"/>
          <a:stretch/>
        </p:blipFill>
        <p:spPr>
          <a:xfrm>
            <a:off x="6215040" y="428760"/>
            <a:ext cx="2928960" cy="6429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:\предавања за ОФТ\01. прва недеља\Natasa\Natasa-Kovacevic-foto-4.jpg"/>
          <p:cNvPicPr/>
          <p:nvPr/>
        </p:nvPicPr>
        <p:blipFill>
          <a:blip r:embed="rId4"/>
          <a:stretch/>
        </p:blipFill>
        <p:spPr>
          <a:xfrm>
            <a:off x="2214720" y="3143160"/>
            <a:ext cx="4786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вал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ође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ече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достат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нтал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имич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пу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ђ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ч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а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дужета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из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ализ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штећењ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e (impairme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врем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ј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ич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том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убита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рукту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дљи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видљи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врем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ј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гресив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ресив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е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пут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ећер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арк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увоћ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епи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нвалидност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еспособност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(disabilit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могућ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ођ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ч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им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т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олошк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об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та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е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шкоћ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о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овор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т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ис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ишће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евенциј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валид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реча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тан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кцин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спит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већи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набде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д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те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ржа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р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ти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о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о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екундарн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евенциј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нвалид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њи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кри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гности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декват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бриња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е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ерцијерн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евенциј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валид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ж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валид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вал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его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ндике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Табела 1.3 Прим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1071720"/>
          <a:ext cx="7027920" cy="5362560"/>
        </p:xfrm>
        <a:graphic>
          <a:graphicData uri="http://schemas.openxmlformats.org/drawingml/2006/table">
            <a:tbl>
              <a:tblPr/>
              <a:tblGrid>
                <a:gridCol w="2421000"/>
                <a:gridCol w="2343240"/>
                <a:gridCol w="226368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вентивна стратег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кивани резулт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арна превен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кцин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ка активн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рава исхра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ен унос со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станак пуше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укција холестеро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зивање сигурносног поја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енција тетану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ење можданог удара за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егавање смрти/повред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е за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ундарна превен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чење епилепс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чење хипертензиј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and OI prophylaxi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ује морталитет, морбидит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0% од можданог удара, срчане и бубрежне слабост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цијална превен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 за рехабилитацију и палијативно збрињавањ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ољшан квалитет и самостално живљење, зауставља / смањује бол и друге симптом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ендике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граниче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мозбрињав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еси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с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ете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пуњав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ција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о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НДИКЕ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ИЦ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м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за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а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о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гностич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о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гност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илак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ч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Инвалидност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хендике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зитивна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еловања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телесне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2" marL="1005840" indent="-200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France YU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зи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р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зи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онар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зи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ачког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јабетес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50%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зи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соког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тис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зи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ав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рцином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5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%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жбањ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дељн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зи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ав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рцином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јк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рцином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стат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гулиса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лес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жи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дукц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сних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лаг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бољша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нерализациј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тиј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дукова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ксиозно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пресиј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живљава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убок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rance YU"/>
              </a:rPr>
              <a:t>	</a:t>
            </a:r>
            <a:br>
              <a:rPr sz="4400"/>
            </a:br>
            <a:r>
              <a:rPr b="1" lang="sr-CS" sz="4400" spc="-1" strike="noStrike">
                <a:solidFill>
                  <a:srgbClr val="000000"/>
                </a:solidFill>
                <a:latin typeface="France YU"/>
              </a:rPr>
              <a:t>Пирамида</a:t>
            </a:r>
            <a:r>
              <a:rPr b="1" lang="en-GB" sz="4400" spc="-1" strike="noStrike">
                <a:solidFill>
                  <a:srgbClr val="000000"/>
                </a:solidFill>
                <a:latin typeface="France YU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France YU"/>
              </a:rPr>
              <a:t>физичке</a:t>
            </a:r>
            <a:r>
              <a:rPr b="1" lang="en-GB" sz="4400" spc="-1" strike="noStrike">
                <a:solidFill>
                  <a:srgbClr val="000000"/>
                </a:solidFill>
                <a:latin typeface="France YU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France YU"/>
              </a:rPr>
              <a:t>актив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нов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гр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ну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уг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епен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ухватају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нагу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држљивост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лексибил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Group 16"/>
          <p:cNvGrpSpPr/>
          <p:nvPr/>
        </p:nvGrpSpPr>
        <p:grpSpPr>
          <a:xfrm>
            <a:off x="304920" y="1905120"/>
            <a:ext cx="4647960" cy="4114800"/>
            <a:chOff x="304920" y="1905120"/>
            <a:chExt cx="4647960" cy="4114800"/>
          </a:xfrm>
        </p:grpSpPr>
        <p:graphicFrame>
          <p:nvGraphicFramePr>
            <p:cNvPr id="127" name="Object 5"/>
            <p:cNvGraphicFramePr/>
            <p:nvPr/>
          </p:nvGraphicFramePr>
          <p:xfrm>
            <a:off x="609480" y="1905120"/>
            <a:ext cx="3808440" cy="411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905120"/>
                      <a:ext cx="3808440" cy="411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" name="Group 6"/>
            <p:cNvGrpSpPr/>
            <p:nvPr/>
          </p:nvGrpSpPr>
          <p:grpSpPr>
            <a:xfrm>
              <a:off x="304920" y="2133720"/>
              <a:ext cx="4647960" cy="2904840"/>
              <a:chOff x="304920" y="2133720"/>
              <a:chExt cx="4647960" cy="2904840"/>
            </a:xfrm>
          </p:grpSpPr>
          <p:grpSp>
            <p:nvGrpSpPr>
              <p:cNvPr id="130" name="Group 7"/>
              <p:cNvGrpSpPr/>
              <p:nvPr/>
            </p:nvGrpSpPr>
            <p:grpSpPr>
              <a:xfrm>
                <a:off x="304920" y="2133720"/>
                <a:ext cx="4647960" cy="2904840"/>
                <a:chOff x="304920" y="2133720"/>
                <a:chExt cx="4647960" cy="2904840"/>
              </a:xfrm>
            </p:grpSpPr>
            <p:sp>
              <p:nvSpPr>
                <p:cNvPr id="131" name="Line 8"/>
                <p:cNvSpPr/>
                <p:nvPr/>
              </p:nvSpPr>
              <p:spPr>
                <a:xfrm>
                  <a:off x="1069200" y="4100040"/>
                  <a:ext cx="3152520" cy="0"/>
                </a:xfrm>
                <a:prstGeom prst="line">
                  <a:avLst/>
                </a:prstGeom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AutoShape 9"/>
                <p:cNvSpPr/>
                <p:nvPr/>
              </p:nvSpPr>
              <p:spPr>
                <a:xfrm>
                  <a:off x="304920" y="2133720"/>
                  <a:ext cx="4647960" cy="2904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f81b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France YU"/>
                    </a:rPr>
                    <a:t>   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France YU"/>
                    </a:rPr>
                    <a:t>rekreac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0"/>
                <p:cNvSpPr/>
                <p:nvPr/>
              </p:nvSpPr>
              <p:spPr>
                <a:xfrm>
                  <a:off x="1642320" y="3405960"/>
                  <a:ext cx="200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Line 11"/>
              <p:cNvSpPr/>
              <p:nvPr/>
            </p:nvSpPr>
            <p:spPr>
              <a:xfrm>
                <a:off x="1069200" y="4100040"/>
                <a:ext cx="3152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Rectangle 14"/>
            <p:cNvSpPr/>
            <p:nvPr/>
          </p:nvSpPr>
          <p:spPr>
            <a:xfrm>
              <a:off x="2114280" y="28195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France YU"/>
                </a:rPr>
                <a:t>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5"/>
            <p:cNvSpPr/>
            <p:nvPr/>
          </p:nvSpPr>
          <p:spPr>
            <a:xfrm>
              <a:off x="1295280" y="436716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France YU"/>
                </a:rPr>
                <a:t>baz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č</a:t>
              </a:r>
              <a:r>
                <a:rPr b="1" lang="en-GB" sz="2400" spc="-1" strike="noStrike">
                  <a:solidFill>
                    <a:srgbClr val="000000"/>
                  </a:solidFill>
                  <a:latin typeface="France YU"/>
                </a:rPr>
                <a:t>na aktivn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Object 2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2782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хабилит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ја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дац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иље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т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071600" y="160020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хабилит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ја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нцип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т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роц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неспособље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ласич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реме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цеп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штеће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валидно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ендике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-4586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јатр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480" y="857160"/>
            <a:ext cx="85532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5000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р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рчк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им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пис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е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калних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генас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ск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рх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евно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и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род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генс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род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овит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в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упунктур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плот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крет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нос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икака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гре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600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илбер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ткрив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ици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789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ткрив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ткрив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вод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891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сл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струиш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ређа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бијањ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Ф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957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ернар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вод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Д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972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веде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Н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шој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емљи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50012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интернационални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конгерс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одржан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Лиеж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1905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годи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Катедр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физикалн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медицин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нашој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земљи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основан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192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год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Београ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195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епоруци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ОУН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наш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земљ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ихват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ограм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рехабилитациј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инвалид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рат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оснив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Завод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рехабилитациј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РВИ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Београ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иси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знач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ирод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офила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ијагностик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9"/>
          <p:cNvGraphicFramePr/>
          <p:nvPr/>
        </p:nvGraphicFramePr>
        <p:xfrm>
          <a:off x="990720" y="1676520"/>
          <a:ext cx="7315200" cy="46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315200" cy="4645080"/>
                  </a:xfrm>
                  <a:prstGeom prst="rect">
                    <a:avLst/>
                  </a:prstGeom>
                  <a:ln w="9360">
                    <a:solidFill>
                      <a:srgbClr val="1f497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лог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клоп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љ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0"/>
          <p:cNvSpPr/>
          <p:nvPr/>
        </p:nvSpPr>
        <p:spPr>
          <a:xfrm>
            <a:off x="4100400" y="29242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rance YU"/>
              </a:rPr>
              <a:t>boles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1"/>
          <p:cNvSpPr/>
          <p:nvPr/>
        </p:nvSpPr>
        <p:spPr>
          <a:xfrm>
            <a:off x="4114800" y="18288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ce YU"/>
              </a:rPr>
              <a:t>zdr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2"/>
          <p:cNvSpPr/>
          <p:nvPr/>
        </p:nvSpPr>
        <p:spPr>
          <a:xfrm>
            <a:off x="3962520" y="453708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ce YU"/>
              </a:rPr>
              <a:t>oporav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3"/>
          <p:cNvSpPr/>
          <p:nvPr/>
        </p:nvSpPr>
        <p:spPr>
          <a:xfrm>
            <a:off x="3886200" y="579132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ce YU"/>
              </a:rPr>
              <a:t>ospos</a:t>
            </a:r>
            <a:r>
              <a:rPr b="1" lang="sr-Latn-CS" sz="2000" spc="-1" strike="noStrike">
                <a:solidFill>
                  <a:srgbClr val="000000"/>
                </a:solidFill>
                <a:latin typeface="France YU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France YU"/>
              </a:rPr>
              <a:t>blj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Задац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France YU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поставља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штећених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ензациј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руше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уторег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ксималн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способност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е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15:44:14Z</dcterms:created>
  <dc:creator>win98se</dc:creator>
  <dc:description/>
  <dc:language>en-US</dc:language>
  <cp:lastModifiedBy>Info</cp:lastModifiedBy>
  <dcterms:modified xsi:type="dcterms:W3CDTF">2020-08-17T11:55:41Z</dcterms:modified>
  <cp:revision>40</cp:revision>
  <dc:subject/>
  <dc:title>Fizikalna medicina i rehabilitacija</dc:title>
</cp:coreProperties>
</file>